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9F0-66B5-439E-80FF-598EAF49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4B7-D909-44A9-AF8C-B4A3F926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EEE83-EBCB-4CDE-8934-DB105862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B9E70-80F9-4CF1-B10C-A29051E0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090AA-98D4-4A78-89EE-DCE80B9C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F2E8E-4362-4E87-A758-4FE1B52F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4598D-DE53-48A5-9480-3CDBED6A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4AC52-95F1-4A0E-AD84-C67F3541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67E51-CF50-411F-9DCB-035DB9A5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A4833-FD39-404E-9890-F13CF595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E9B36-78B7-4BD0-AA25-5DBD5951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39B0F-EFEB-437C-B499-B16E3198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3F2-33E9-49EA-86F8-016EE6B9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B39D5-37E5-40EF-87D0-E55114C8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7B45A-A032-4D65-87A6-C57EAB70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6372D-FA7A-4742-95F1-838BD422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B6A30-A102-46B7-99B6-2EF530B8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AD729-FA59-471B-BB7D-7D90B6AC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81201-1B45-4AF3-92E6-1AD3946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181C2-82C0-482C-9EAB-E82F134A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19B31-CC30-4759-A2C6-5A1F1F2B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CF276-14E7-4D89-AEB6-B2D36FEF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89ACE-3244-454D-9AEA-F0804549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C2E-BF1A-42E4-A805-84856C5E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D78D3-4537-48BC-A0E4-FEA47BC9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56396-07F3-451A-8A00-32953D50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0F665-E448-4896-92C7-8DADBD84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E297B-FF62-4892-9A8D-BF08F211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FA7ED-2CC6-4166-A9DA-245E261F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EADEF-B46B-4F10-BA67-02C13DDE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29C54-C293-40BE-B721-8392085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41D4B-997D-45B5-A547-D18B529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D9717-CBD6-4BE2-A302-6DE9BFC4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352A4-6184-4C52-9730-8ED7B38C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AE75-9EB0-4AEA-8F21-A736D3C6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046E9-4791-4821-8F9E-09E1B994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650C5-C560-466D-B0AD-CF0204FC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194A9-CEA7-40D2-BED9-7D209665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425CE-FE58-43C4-8746-EA2504CC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7DE34-B53D-4AB1-B2C7-18951ADC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8EB29-87EA-4265-8972-474F0DAE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07536-5068-4697-948B-074D831D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DA7FD-9990-4798-BB82-2569E678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4F5D6-C442-4FC0-A65E-EFE178DE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ADC1E-F02E-4B67-BAC6-1085FD5A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90FC-808C-4924-8B88-56EB0E34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8A952-AD2B-4CE4-8264-08080604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B7F34-7C54-4AE0-9C98-D5DF698C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CDC93-BFF9-481A-B517-56AF561D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1BDFD-BD2E-442E-979D-CEA7A3F9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F7FBA-C678-4AC1-985C-B100DF30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74C5D-50C8-4C2E-A701-8629E6BA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5F1CB-1A41-47EE-9381-5566EA0F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08D99-2642-42CF-960D-F033F027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1BDE8-7283-485C-A3B1-AB1B90D6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3DBCA-B8D2-4509-91C1-B3970949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2E2C-F840-46E8-8BEF-581FD827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65F79-543B-44F9-9285-08FF316C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058E9-5FAA-4370-83DD-9C44DC31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7CD10-2AEF-458F-B7B1-F663C029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5EE5F-7F24-4EBF-AA29-646204E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07276-9685-4C60-9973-846CF076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F30C8-0483-4139-8770-395C01DE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5173F-8E7A-443D-911F-5390234B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63808-BD0E-43B9-BBDD-7E3ABBAE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D74D9-8955-47F4-985E-E9C25791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09D4B-ECA3-4C67-B66D-C404A006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4391-E4B0-4AC2-ACBB-7ED5D83E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38C99-1721-4005-BCE0-D47CF29D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9D90C-8CD7-4D5D-B404-7DDE2B6F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05EB6-1786-4468-9D31-517B9C81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04E4F-4687-47F7-A6B4-8C110DDA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9BB30-26E9-498E-AC01-786A357F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93B03-D5BF-4F3D-B0B5-FB277A9A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36020-3D83-43AB-81DE-0C923C5D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6E2BE-31D5-4092-9825-2B8F850B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24D77-4D3F-4870-B5C1-204F9016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F2593-9372-408B-ABC3-23BEB96C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A542-3135-4968-B98F-B152C1FB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1F890-8ADB-4EA0-A43C-DAA94BBE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C4DCF-1AC3-4D9E-972B-F3500214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41A5B-CF1C-423B-A241-40A67F2A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67536-7F77-4ED5-995E-A58BFB4A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93611-0022-4C27-A602-3EE89A0B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FD86F-DA26-47BC-AF77-9FDE654E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1D5ED-F5EB-4EE8-85E9-2EF922E9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674E51-8176-4248-A58A-3920F557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DF8631-DCAE-4083-8D35-F0F8F988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0694B-24EF-4C79-BF4F-928655ED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2652-6ECF-4FAB-8BE8-3FB76C26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6E5878-7CFF-4EFA-A0EA-37A58C36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2E570D-4892-4E45-A3D4-B19338C7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4E5EC-BAA7-467F-A322-02EB21CC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AE52C-1A17-4C37-832D-CD594ABD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E4D02-66C6-430D-B028-DEC1DCF2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031C6-658F-4D07-9035-9543FA62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8278A-F951-40C2-93CE-140CD87D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C1103-A0FD-4398-B359-FA83AA1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F1656-F4DB-48D7-97C0-0B246743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5C87E-4864-492B-BE6A-55029510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A9F3-4BE3-47E5-B065-DD34C606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16DF2-99EC-4341-9CD0-86D3675E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2990D-FF80-4CB5-89B4-4284530C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2012E-7E21-444C-AEF3-F5789FEB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B7CAC-4DFC-4869-8B7B-A57FF94D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FC5F1-BE70-427B-B4F2-26D911D0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72BFB-6CFC-400A-90E1-5472CA1C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E52B8-07FF-4053-968D-29C95548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81ED86-880C-4800-9C3A-9DB94769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7290A-7801-4C43-B16C-72C09932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7B861-21F1-4ACD-BCBD-598CFE44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45F-8A18-4125-8A6F-F1A2D7E0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7C5C-A629-4B30-8A3A-1949EF51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AE2E1-AFE0-484A-ADBD-A1D72384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3B8A49-1902-4CE2-84BC-0419E4F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B0817-42E7-4C56-8312-3B7BB5F5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67FFA-E8E5-4584-914B-FC8C9853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92ED9-D83B-429B-BEB2-71D57E34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8C8F7-F810-47DF-9542-91723FE5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FEAF75-FD3B-419C-AAF4-261656DC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71CA7-A983-4972-93A9-DB3B6C3F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3C45C-72BF-4576-9320-1FA3CE2C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7D14F-9CAC-4844-BA07-520DBFDE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7EA8-5CA2-431C-BB4A-EF81DC11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4DA83-CF54-49FE-8139-152F651E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BC14A5-D807-444F-AFF5-B44F9F26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F010A1-F604-4955-B5FD-1FFC1227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60D80-2832-4B04-A619-B884182A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128B17-BA96-4AE0-AB57-B15D7561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27F51-86F9-4EF8-9612-2EFF071A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B82CDC-A529-4BBF-9CF6-78CAFA0E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D81EB-3B11-4CD4-A4E2-6700EDE3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FFE88D-1926-4F57-9664-2D6D4A1C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7C47B-090B-459A-B223-078DB95D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82C5-F2EC-45C3-9B7C-1717C4E3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B77A69-875E-48E4-9C98-B54D4B22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6CC3F8-F861-48D9-AF7A-78F78583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7FF37-2F20-4D46-8BE8-F315D8A6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26FD2-6C85-40B7-AEA5-42456502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BC565A-583C-4059-9EEA-AA4368A4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FB2656-B6B0-4BBB-A763-970B712A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2C2981-5D91-4D86-8C65-47FF6342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78028-8970-4777-8DBF-91F3552E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8CA854-5025-4B98-B570-A168F6E4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A3170-C029-4DF7-8E0E-B20180CA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DDDC-B818-4AA1-9538-09DDAB8D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66C6D8-4901-48DF-8F21-BAE15409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07391-834B-4532-94D2-D2E889B8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360A80-2B3D-4F71-AC4E-BBF5D5E6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CF258B-69AB-462F-9D7B-D0E5AA0E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99473-0507-41E9-AFB0-A8758DBD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9E4CC-F74B-4379-8572-5C1588F3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65410-09D0-492A-85CB-8793986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7182CC-F745-4255-A31C-903FFEC2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3D0C8C-0FDB-4B86-A75B-072946B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93827-CEC8-4E5B-B249-4360BF20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B808-A183-4B07-82F0-4D37B614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2D288A-CBDF-44CC-A9B1-6490C2DD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B6D38D-2074-4544-BDB3-CB210041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A9F014-133D-48EC-91DC-01757604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AB617-34B0-4AE3-99EE-592DCBA9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DBA47-A6FF-4241-A203-87D20E86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94EAA7-8769-40AD-B4C0-7B9BA053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484E8-ABAC-44FB-90CE-9F68BBB0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A1E849-16C6-4CD5-B303-DF566669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EB73E7-4E25-4C25-85A6-920468BD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132865-2416-4DCD-822D-C5F24B87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BD027-A760-4A0B-8F83-0E126BE6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D6D80B-2F44-418A-B231-30B842B0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8C18F-344C-477A-B1B6-64FC9F48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666B8A-9629-4BDC-9747-BF17FD09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CAAE-8D59-4BEE-A3E2-307A54E1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708A-6F3B-46DF-8FE9-542E4D58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D085-8136-4590-B0D3-FB631F0E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3532-3124-4DC4-A045-CA1CE372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085-F55F-4961-BFFB-A2C1943B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A6B2-1695-4B65-ACC2-3220C388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095F-7F42-4C75-BA63-EF032AC8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F85D-CE9B-44ED-ACB5-252EB2F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B3BB6-E11E-45A1-A72B-5B4C2264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23C8-73E4-4A74-A231-8F655642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46EE3-7C6B-4337-A6F1-8C9D81AC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B4A74-228B-43C5-8B2D-290474F1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BC30E-D33E-4554-94E6-5B20BDD2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51425-8A4D-4108-9E5E-BBF5424D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E1563-56C9-4B8B-8CDC-316DA0A2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450-6F4E-4B23-9C46-5B9EE9D9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737F6-097C-4C12-A06D-A9D6F362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7647-9458-429C-AF31-9FCD389F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2881C-3D59-42E8-9985-FCDA0914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80C1-3058-4F3E-9D30-B7768AEE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0F28E-16F4-4F7F-8589-34DBAE18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A58A9-7CEC-43E8-8A6D-B3D50B55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6DD20-FF41-447B-AB0B-4DB82AEE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10CEA-6C32-40B1-867B-FE0AD3FF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4347-D4AA-4547-86BD-18CCD26C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94493-02E5-4131-BCDB-F4B7E6DC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587-475E-42B5-9ED3-05974976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6C325-6109-4123-BC9C-A51C4771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DCE67-DC10-4D67-9DCA-07A80243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460D7-5C6E-400F-A825-392D4F38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3143C-16CF-473A-BD9F-C297316A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1FDBF-EFD1-4725-B08C-640A8537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6B8AE-1E77-49A6-8DE9-D1392E95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41EA4-43A4-45F8-8AE9-2F0FA49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0C93E-91D9-4E7B-B01C-8D92D32E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A9174-E7C0-46EB-9F89-7A921D07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12217-7D88-45DC-AF47-BF41AB71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219-9000-4F1C-B88C-6683FC40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C227C-7F60-4615-A00E-1679228E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50557-92F8-4761-9EF0-D340ABE6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222A4-DEA0-4AF1-86EE-5B3FC002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35326-B9AC-4DF4-B079-DD4F2F6A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0770-A694-4BF3-965C-5FA18409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74E63-3FCB-4199-AF35-1183298B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E9C94-54BE-43EC-828D-AC4F4824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C23B6-BA19-457E-A6CE-BCC8CD0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54EAE-5B21-491C-A895-5A56B378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32ADE-0368-499A-A75D-6B98C8A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4B9-FE3C-42C5-BBCD-2AD8464C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612C-016B-4CBA-A6EC-EF6B320D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F5F51-3223-493E-8A4E-3F003CE5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4346B-E733-4DC8-A5F5-5AEACE7A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63B69-EF79-4171-A7FC-02A95C91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CFC1E-4897-4987-99C6-EEADEE5B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6D60B-8B3B-424C-9E2D-9AB6EDC5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A3996-3B54-4246-8431-DCCEA150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25925-891E-426B-B5EB-7DFC00E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2AC1C-7B1E-47E2-9F97-A83DC1DB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C3243-0F85-42D7-99DF-25438072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8EE-D557-4A9F-9864-B7A22B7A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1398A-892A-40D5-85C7-F9B5DB9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B7CE8-9DA1-45E7-B859-E65D0EB2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68885-B909-47B9-9129-00961A9D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26CC6-5202-416B-BACB-BE24C6DA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5D4C2-3B3B-49ED-A5D5-1339F700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C48DC-ED4D-46F2-82D5-711BFB60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E8EBE-13A5-4C39-897B-688FFE20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9B495-239C-4E83-97AB-3ED27A70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C3506-8F2C-4C47-B99C-AEFC3ABF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3857B-B8D8-41B4-8471-C824F9EB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472-B78E-40F7-9299-39F7F0A3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621B3-A199-4804-A566-437AECF7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D2E04-D7ED-4D2D-954A-344B3AD5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CD3B4-2DF2-4512-A742-D7E11003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55DD2-2A4F-4C16-A2AD-C7B9ECEB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98443-AB7B-4849-8CC5-C9B9D0BD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B073E-5616-42A4-B412-FD5A050F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509A0-E3E4-43BC-9810-A8FC255D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88E92-8E94-4080-B669-1E8EADEC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5C7C9-D39A-422E-9759-AA47BBB6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D812B-C8BD-432D-9D0F-2D33560D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0BDE-D8AB-47C6-ACED-2795BFDBB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7B65-3A3C-49AD-A54A-2D0159D244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33CE-453C-44B2-BF88-BA86E7783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3362-1B78-4A7E-ACC0-53A50E3EE7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FD51-8FA7-4C09-9FAA-046D32FA1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7B4C-23A9-4A73-9E26-3EFC6B6FE0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240C-27C9-4138-9273-01036DC63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17B4-5079-4EC2-A2E6-C18DA6A8C1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77CA-FE48-4B4D-A56D-EB45BAEB4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1469-D24B-4C0E-BAC4-77FECE665B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0CEF-979F-402B-ABB1-B48331CBCA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77BA-8A2C-4458-9EEF-784E83FD03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F19C-B4F6-4090-90B0-F28A178677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51D6-0D48-4763-A5C1-96EC8DEAC7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0863-CF39-4D14-8C45-AA91FA8435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5C79-8346-4E95-B9EC-18358B7A63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F569-A913-4FA3-B733-3F7B360AA1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980A-2A68-494B-878C-7EFE184708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3DEF-FE03-4C26-8220-F547E05703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6DB4-F2BE-48D3-B7AF-5E63C9B8CF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A4F4-0194-4423-9860-CEDDD785F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A76F-1B8A-46F3-8583-C3D302558C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CCF9-96B0-4DE5-BBAA-4D438423A1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D350-3D46-4A40-ACA9-68BD3EEB8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B62A-52D8-480F-9267-B646D04C8E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8926-119E-4312-A33E-858DF5649F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F94C-D344-46B4-8BBB-C3C3C152F2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06B0-9825-48F3-A807-8548001AE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ADCB-EE18-4158-840A-96BB88FC95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A2E1-CDE6-43B3-83E0-BB15E7F5B4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D550-1145-465C-8B04-0F046264A6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37B0-E2F4-4574-99DA-C13C4B415D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D903-C929-4DAE-8C8F-C79D15D743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1D79-9B7D-48FD-BDF5-7D536BB229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A6B8-EBA8-4FA9-841B-8E5F813CE3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3A68-754D-4EAC-AD03-9BD517F4A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CFD2-AC58-4F72-A574-D37833B6AD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58FF-50BA-4FAD-AAA6-3FD4BF6EFA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D1BF-C0E7-41A7-8505-303A13B22D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C14F-BF7A-4864-BAFA-1FC86D46A9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66880" y="3095640"/>
            <a:ext cx="38102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7" name="组合 4106"/>
          <p:cNvGrpSpPr/>
          <p:nvPr/>
        </p:nvGrpSpPr>
        <p:grpSpPr>
          <a:xfrm>
            <a:off x="138240" y="1305000"/>
            <a:ext cx="8866080" cy="4248000"/>
            <a:chOff x="138240" y="1305000"/>
            <a:chExt cx="8866080" cy="4248000"/>
          </a:xfrm>
        </p:grpSpPr>
        <p:pic>
          <p:nvPicPr>
            <p:cNvPr id="1028" name="图片 1" descr=""/>
            <p:cNvPicPr/>
            <p:nvPr/>
          </p:nvPicPr>
          <p:blipFill>
            <a:blip r:embed="rId1"/>
            <a:stretch/>
          </p:blipFill>
          <p:spPr>
            <a:xfrm>
              <a:off x="138240" y="1305000"/>
              <a:ext cx="8866080" cy="42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1" descr=""/>
            <p:cNvPicPr/>
            <p:nvPr/>
          </p:nvPicPr>
          <p:blipFill>
            <a:blip r:embed="rId2"/>
            <a:stretch/>
          </p:blipFill>
          <p:spPr>
            <a:xfrm>
              <a:off x="971640" y="3976560"/>
              <a:ext cx="7921440" cy="89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428472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90000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594036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262728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7596360" y="2506680"/>
            <a:ext cx="360360" cy="320760"/>
          </a:xfrm>
          <a:prstGeom prst="rect">
            <a:avLst/>
          </a:prstGeom>
          <a:ln w="0">
            <a:noFill/>
          </a:ln>
        </p:spPr>
      </p:pic>
      <p:sp>
        <p:nvSpPr>
          <p:cNvPr id="1036" name="直接连接符 4107"/>
          <p:cNvSpPr/>
          <p:nvPr/>
        </p:nvSpPr>
        <p:spPr>
          <a:xfrm>
            <a:off x="971640" y="3933720"/>
            <a:ext cx="1512720" cy="935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4108"/>
          <p:cNvSpPr/>
          <p:nvPr/>
        </p:nvSpPr>
        <p:spPr>
          <a:xfrm flipH="1">
            <a:off x="1042920" y="3933720"/>
            <a:ext cx="1455840" cy="935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4109"/>
          <p:cNvSpPr/>
          <p:nvPr/>
        </p:nvSpPr>
        <p:spPr>
          <a:xfrm>
            <a:off x="4024440" y="3933720"/>
            <a:ext cx="1512720" cy="935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4110"/>
          <p:cNvSpPr/>
          <p:nvPr/>
        </p:nvSpPr>
        <p:spPr>
          <a:xfrm flipH="1">
            <a:off x="4125960" y="3962520"/>
            <a:ext cx="1455840" cy="934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4111"/>
          <p:cNvSpPr/>
          <p:nvPr/>
        </p:nvSpPr>
        <p:spPr>
          <a:xfrm>
            <a:off x="7164360" y="3990960"/>
            <a:ext cx="1152720" cy="9208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4112"/>
          <p:cNvSpPr/>
          <p:nvPr/>
        </p:nvSpPr>
        <p:spPr>
          <a:xfrm flipH="1">
            <a:off x="7164360" y="3919680"/>
            <a:ext cx="1332000" cy="10220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95120" y="1481040"/>
            <a:ext cx="8751960" cy="3895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90000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392436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6948360" y="2003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900000" y="25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393876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5127" descr=""/>
          <p:cNvPicPr/>
          <p:nvPr/>
        </p:nvPicPr>
        <p:blipFill>
          <a:blip r:embed="rId7"/>
          <a:stretch/>
        </p:blipFill>
        <p:spPr>
          <a:xfrm>
            <a:off x="971640" y="35002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5128" descr=""/>
          <p:cNvPicPr/>
          <p:nvPr/>
        </p:nvPicPr>
        <p:blipFill>
          <a:blip r:embed="rId8"/>
          <a:stretch/>
        </p:blipFill>
        <p:spPr>
          <a:xfrm>
            <a:off x="2916360" y="35002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5129" descr=""/>
          <p:cNvPicPr/>
          <p:nvPr/>
        </p:nvPicPr>
        <p:blipFill>
          <a:blip r:embed="rId9"/>
          <a:stretch/>
        </p:blipFill>
        <p:spPr>
          <a:xfrm>
            <a:off x="5364000" y="35002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5130" descr=""/>
          <p:cNvPicPr/>
          <p:nvPr/>
        </p:nvPicPr>
        <p:blipFill>
          <a:blip r:embed="rId10"/>
          <a:stretch/>
        </p:blipFill>
        <p:spPr>
          <a:xfrm>
            <a:off x="7264440" y="35002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5131" descr=""/>
          <p:cNvPicPr/>
          <p:nvPr/>
        </p:nvPicPr>
        <p:blipFill>
          <a:blip r:embed="rId11"/>
          <a:stretch/>
        </p:blipFill>
        <p:spPr>
          <a:xfrm>
            <a:off x="957240" y="41194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5132" descr=""/>
          <p:cNvPicPr/>
          <p:nvPr/>
        </p:nvPicPr>
        <p:blipFill>
          <a:blip r:embed="rId12"/>
          <a:stretch/>
        </p:blipFill>
        <p:spPr>
          <a:xfrm>
            <a:off x="2916360" y="413532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5133" descr=""/>
          <p:cNvPicPr/>
          <p:nvPr/>
        </p:nvPicPr>
        <p:blipFill>
          <a:blip r:embed="rId13"/>
          <a:stretch/>
        </p:blipFill>
        <p:spPr>
          <a:xfrm>
            <a:off x="5364000" y="413532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5134" descr=""/>
          <p:cNvPicPr/>
          <p:nvPr/>
        </p:nvPicPr>
        <p:blipFill>
          <a:blip r:embed="rId14"/>
          <a:stretch/>
        </p:blipFill>
        <p:spPr>
          <a:xfrm>
            <a:off x="7294680" y="41194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5135" descr=""/>
          <p:cNvPicPr/>
          <p:nvPr/>
        </p:nvPicPr>
        <p:blipFill>
          <a:blip r:embed="rId15"/>
          <a:stretch/>
        </p:blipFill>
        <p:spPr>
          <a:xfrm>
            <a:off x="985680" y="4753080"/>
            <a:ext cx="1224000" cy="56016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5136" descr=""/>
          <p:cNvPicPr/>
          <p:nvPr/>
        </p:nvPicPr>
        <p:blipFill>
          <a:blip r:embed="rId16"/>
          <a:stretch/>
        </p:blipFill>
        <p:spPr>
          <a:xfrm>
            <a:off x="2914560" y="4753080"/>
            <a:ext cx="1224000" cy="56016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5137" descr=""/>
          <p:cNvPicPr/>
          <p:nvPr/>
        </p:nvPicPr>
        <p:blipFill>
          <a:blip r:embed="rId17"/>
          <a:stretch/>
        </p:blipFill>
        <p:spPr>
          <a:xfrm>
            <a:off x="5349960" y="4753080"/>
            <a:ext cx="1224000" cy="56016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5138" descr=""/>
          <p:cNvPicPr/>
          <p:nvPr/>
        </p:nvPicPr>
        <p:blipFill>
          <a:blip r:embed="rId18"/>
          <a:stretch/>
        </p:blipFill>
        <p:spPr>
          <a:xfrm>
            <a:off x="7292880" y="4753080"/>
            <a:ext cx="122400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41400" y="1447920"/>
            <a:ext cx="9020160" cy="411948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6146" descr=""/>
          <p:cNvPicPr/>
          <p:nvPr/>
        </p:nvPicPr>
        <p:blipFill>
          <a:blip r:embed="rId2"/>
          <a:stretch/>
        </p:blipFill>
        <p:spPr>
          <a:xfrm>
            <a:off x="755640" y="2260440"/>
            <a:ext cx="1295280" cy="52092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6147" descr=""/>
          <p:cNvPicPr/>
          <p:nvPr/>
        </p:nvPicPr>
        <p:blipFill>
          <a:blip r:embed="rId3"/>
          <a:stretch/>
        </p:blipFill>
        <p:spPr>
          <a:xfrm>
            <a:off x="2843280" y="2247840"/>
            <a:ext cx="1295280" cy="52092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6148" descr=""/>
          <p:cNvPicPr/>
          <p:nvPr/>
        </p:nvPicPr>
        <p:blipFill>
          <a:blip r:embed="rId4"/>
          <a:stretch/>
        </p:blipFill>
        <p:spPr>
          <a:xfrm>
            <a:off x="4802040" y="2247840"/>
            <a:ext cx="1295640" cy="52092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6149" descr=""/>
          <p:cNvPicPr/>
          <p:nvPr/>
        </p:nvPicPr>
        <p:blipFill>
          <a:blip r:embed="rId5"/>
          <a:stretch/>
        </p:blipFill>
        <p:spPr>
          <a:xfrm>
            <a:off x="7107120" y="2247840"/>
            <a:ext cx="1295640" cy="52092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6150" descr=""/>
          <p:cNvPicPr/>
          <p:nvPr/>
        </p:nvPicPr>
        <p:blipFill>
          <a:blip r:embed="rId6"/>
          <a:stretch/>
        </p:blipFill>
        <p:spPr>
          <a:xfrm>
            <a:off x="755640" y="3255840"/>
            <a:ext cx="1295280" cy="52092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6151" descr=""/>
          <p:cNvPicPr/>
          <p:nvPr/>
        </p:nvPicPr>
        <p:blipFill>
          <a:blip r:embed="rId7"/>
          <a:stretch/>
        </p:blipFill>
        <p:spPr>
          <a:xfrm>
            <a:off x="2844720" y="3241800"/>
            <a:ext cx="1295640" cy="52056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6152" descr=""/>
          <p:cNvPicPr/>
          <p:nvPr/>
        </p:nvPicPr>
        <p:blipFill>
          <a:blip r:embed="rId8"/>
          <a:stretch/>
        </p:blipFill>
        <p:spPr>
          <a:xfrm>
            <a:off x="4788000" y="3241800"/>
            <a:ext cx="1295280" cy="52056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6153" descr=""/>
          <p:cNvPicPr/>
          <p:nvPr/>
        </p:nvPicPr>
        <p:blipFill>
          <a:blip r:embed="rId9"/>
          <a:stretch/>
        </p:blipFill>
        <p:spPr>
          <a:xfrm>
            <a:off x="7149960" y="3241800"/>
            <a:ext cx="1295640" cy="52056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6154" descr=""/>
          <p:cNvPicPr/>
          <p:nvPr/>
        </p:nvPicPr>
        <p:blipFill>
          <a:blip r:embed="rId10"/>
          <a:stretch/>
        </p:blipFill>
        <p:spPr>
          <a:xfrm>
            <a:off x="1490760" y="4249800"/>
            <a:ext cx="718920" cy="52056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6155" descr=""/>
          <p:cNvPicPr/>
          <p:nvPr/>
        </p:nvPicPr>
        <p:blipFill>
          <a:blip r:embed="rId11"/>
          <a:stretch/>
        </p:blipFill>
        <p:spPr>
          <a:xfrm>
            <a:off x="2354400" y="4249800"/>
            <a:ext cx="718920" cy="52056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6156" descr=""/>
          <p:cNvPicPr/>
          <p:nvPr/>
        </p:nvPicPr>
        <p:blipFill>
          <a:blip r:embed="rId12"/>
          <a:stretch/>
        </p:blipFill>
        <p:spPr>
          <a:xfrm>
            <a:off x="4643280" y="4249800"/>
            <a:ext cx="719280" cy="52056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6157" descr=""/>
          <p:cNvPicPr/>
          <p:nvPr/>
        </p:nvPicPr>
        <p:blipFill>
          <a:blip r:embed="rId13"/>
          <a:stretch/>
        </p:blipFill>
        <p:spPr>
          <a:xfrm>
            <a:off x="6199200" y="4249800"/>
            <a:ext cx="719280" cy="52056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6158" descr=""/>
          <p:cNvPicPr/>
          <p:nvPr/>
        </p:nvPicPr>
        <p:blipFill>
          <a:blip r:embed="rId14"/>
          <a:stretch/>
        </p:blipFill>
        <p:spPr>
          <a:xfrm>
            <a:off x="7020000" y="4249800"/>
            <a:ext cx="718920" cy="52056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6159" descr=""/>
          <p:cNvPicPr/>
          <p:nvPr/>
        </p:nvPicPr>
        <p:blipFill>
          <a:blip r:embed="rId15"/>
          <a:stretch/>
        </p:blipFill>
        <p:spPr>
          <a:xfrm>
            <a:off x="885960" y="4984920"/>
            <a:ext cx="718920" cy="52056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6160" descr=""/>
          <p:cNvPicPr/>
          <p:nvPr/>
        </p:nvPicPr>
        <p:blipFill>
          <a:blip r:embed="rId16"/>
          <a:stretch/>
        </p:blipFill>
        <p:spPr>
          <a:xfrm>
            <a:off x="2771640" y="4984920"/>
            <a:ext cx="633600" cy="52056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6161" descr=""/>
          <p:cNvPicPr/>
          <p:nvPr/>
        </p:nvPicPr>
        <p:blipFill>
          <a:blip r:embed="rId17"/>
          <a:stretch/>
        </p:blipFill>
        <p:spPr>
          <a:xfrm>
            <a:off x="3492360" y="497052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6162" descr=""/>
          <p:cNvPicPr/>
          <p:nvPr/>
        </p:nvPicPr>
        <p:blipFill>
          <a:blip r:embed="rId18"/>
          <a:stretch/>
        </p:blipFill>
        <p:spPr>
          <a:xfrm>
            <a:off x="5133960" y="4970520"/>
            <a:ext cx="633600" cy="52056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6163" descr=""/>
          <p:cNvPicPr/>
          <p:nvPr/>
        </p:nvPicPr>
        <p:blipFill>
          <a:blip r:embed="rId19"/>
          <a:stretch/>
        </p:blipFill>
        <p:spPr>
          <a:xfrm>
            <a:off x="7093080" y="4970520"/>
            <a:ext cx="633240" cy="52056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6164" descr=""/>
          <p:cNvPicPr/>
          <p:nvPr/>
        </p:nvPicPr>
        <p:blipFill>
          <a:blip r:embed="rId20"/>
          <a:stretch/>
        </p:blipFill>
        <p:spPr>
          <a:xfrm>
            <a:off x="8300880" y="4970520"/>
            <a:ext cx="6336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08:54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